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dt" idx="2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 type="sldNum" idx="3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3BB6-3974-4D03-AD4D-F727FA814D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6566-E9CF-41C6-B66E-F0B578184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933B-F986-4845-ADD9-E96C4D62510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362C-57E1-4180-ABAE-0DF7D59B8754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</a:t>
            </a: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Pokud se žák přihlásil ve spol. části MZ k povinnému DT </a:t>
            </a:r>
            <a:br>
              <a:rPr sz="1200"/>
            </a:br>
            <a:r>
              <a:rPr b="0" lang="cs-CZ" sz="1200" spc="-1" strike="noStrike">
                <a:solidFill>
                  <a:srgbClr val="ff0000"/>
                </a:solidFill>
                <a:latin typeface="Calibri"/>
              </a:rPr>
              <a:t>z matematiky a ředitel určil pouze 2 další povinné zkoušky profilové části, nemůže žák nahradit povinnou zkoušku z cizího jazyka v profilové části. Může nahradit nepovinn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4917-0E18-4609-974F-BD513F4FFF3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Na HDP se ze 40 % podílí průmys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F6ED-6AC7-430A-898E-478AE7CEB16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5F83F-2E3C-4A10-8003-CD569796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CE803-05C4-48A4-A889-F091D696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1B45F-1E92-4DBE-8143-008D6D7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D849D-736F-4DE8-9EA4-285E4A0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B5B0-1050-48F5-B41D-D2E8A32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576A-16B1-4532-BF06-7AE1E95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37221-DCD3-4977-B3B7-BF3507FA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B99EF-EE4C-4781-B880-5B76E97C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6D85E-46B3-4D4F-B2CA-4D7207E6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151CE-AC0C-495C-AF5C-26EC349E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C4BEA-4CC3-4BC5-BB4F-4EC38B75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E3C5-781B-490B-8033-A85B7086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B09E-32EE-4857-924F-834A2003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A493-9070-4EA2-95E4-AB5C7B36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DFDF8-F9D2-4F16-92EC-6FA4CC5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A19FE-8567-4203-9092-BF48981A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55726-D441-4DA1-9803-5EA464F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4AC9-5B51-4545-BBCD-F4CF2B4E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D1A15-8689-4E53-BB8B-804756A9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C4647-10BF-4BE4-B60B-FBE1CCD8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96EA4-C38B-44A8-9DA0-F0B6DF6C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44DAD-1960-459B-BA0D-14B84752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1CC6A-B1BF-486E-AA7E-83CB69B5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FE24D-14A5-4480-BBEE-0F2C0AF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15B0C-23D3-4BD5-B4CF-87615AED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4BA1-30B8-45AA-9879-CF9EC91F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D1CF-C5C8-41E9-ADE2-25E30EE7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BE9F8-FA80-4F9A-9FCA-5E61B94F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6471-65F0-4002-AB84-4B60C17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A7DC7-1485-4AD9-9ABD-E40FA417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FA7DD-FBF0-4E58-8BE1-1940B39C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D4290-C7D6-4B05-BD8D-2DF60726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08321-4441-461E-A0D3-ABB6B32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DD91C-BC40-49F5-B6AE-8538CD88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30F3A-2F36-4974-BC81-1AE19CA0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45FE2-04AC-4D86-9F83-2D239286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74311-02E4-4784-9135-894A2608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7BBDE-BDD5-4B54-8512-D50DE87C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5F2AE-1B19-4A50-A716-0ADFA256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47DD9-6C12-4614-B3DC-29E03233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17651-04CA-4561-8031-BE29D70D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FF202-8662-4860-9DA0-2D8868C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37876-2228-4C60-BC45-226CBA88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55E2A-12C2-4FC6-8B57-8AC9CD54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7C2D9-20CB-4637-8CE9-F5C4CC79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550-7E7F-4A0E-AA03-3F9F0388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BAD-5EAA-4A10-A7CA-A9EEA76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FFB-5F50-4E4F-84F6-219F5DE0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FA74-61FB-4332-9483-B1150E0B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DC1-4C7A-4076-AC68-B4C9B7D1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E41-09F4-4F40-9B9A-59D80D2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158-EE0E-432A-9BBB-7663E4B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813D-C07F-4702-9BC2-34445996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E6F-1159-41BB-BBE1-044A816D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6FD-4F74-4C28-8710-D50E05F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D09-55DA-4963-8C72-58483827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718-6D31-4518-8588-2E8A7C4E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9E3B-8131-43CD-8A54-F05584B8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E0D-5A19-4AC6-8403-3604004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786-57B7-4D89-855A-2F82D74B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AE1D-FA64-42D9-8095-5A13A3A6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52AB6-BFB7-408A-A9AF-C861FB94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FFB0-88E2-4B21-A277-CD4EE0C7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3D48-8A91-4DB5-88FF-1D886EA5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7955-7F3F-4CF8-92E6-F283615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FC2A-6AF7-4AA0-89F0-196ED271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C67F-EF94-4645-878D-12483C50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4CEC-34A3-45F9-ADAB-05BF452A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6858-9F30-45F7-A30F-5E4B3FC5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4A0B5-DE8C-433F-A95F-075BA60C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B4BC7-F3C3-4D2D-8BC1-14FDCA70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35D95-BF88-44D0-A942-9613F04E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969F-15BA-41E0-9AFB-3C0F9C80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63569-9987-4DD2-8419-AA80B66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8EC7F-5076-49F8-8327-8BA339F4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C2418-127A-4007-ACC5-7B51382C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FE98B-69D7-47B0-9003-8A0161D0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E58C1-56A9-4F3B-95A8-34766914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2E40B-FB34-4242-A210-DC866960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D1EA6-45B8-49C3-8622-4327AB7B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3DC21-B3C3-4156-AAA3-40AAA243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5C1F-7DC9-41E2-9961-9186F75B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989C-817A-41AB-867D-AE9E5640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B39E3-9E9C-4863-AB9B-D8EE7FD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83B45-33AD-474E-A310-BB0BF18E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7619B-0703-4180-90F0-1736BF9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2A464-752F-4A46-9D7F-866C9B27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7AED-CB29-49E6-BAD8-C011E3C5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6273F-395D-4D42-B15C-D8DB5A7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F6070-AD26-4B59-A87F-ED817FA3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6AB1-A6C0-42EC-90E1-714427E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A0A69-80E7-436E-A23F-C260219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4551-BA08-4451-B35A-9F60C8BF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E440-9BC2-40C4-B8EF-BD15C262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1017B-C41B-41C8-A581-0A3F704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A0167-A680-47AF-9B36-F789CC03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54BB5-A5D0-4909-905A-88762B45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00B1-5AD7-48DC-9B86-2E08995B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38F4B-C4F6-4E05-891C-6219DE18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CEAD2-87DD-4E2E-A108-E9958CF2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5E85E-65BD-45DA-ACDA-46BB1DFE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B5F42-3B78-4F15-9731-3243E1B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6000" y="3977640"/>
            <a:ext cx="75708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63F4-7F56-4C17-AE89-078B8FD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5360" y="162828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600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5360" y="3977640"/>
            <a:ext cx="3694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AC7DC-345A-45FE-8F1F-5982E66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759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35560" y="162828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600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759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35560" y="3977640"/>
            <a:ext cx="24375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FE66-1B53-4010-958F-6B61D5BD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1E732-FDD1-4098-B61C-2F044716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58EF6-8EE1-4EC6-AA66-7C761B2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823F0-0C75-4E97-B1DD-E8E4994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929-7393-45FE-9C3C-6B3810B4EF42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9E1-2FAF-4749-9130-171E1E9929AF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EF3-4D9F-41EC-B3FA-983F233F5DF6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B88-371B-458F-8118-697533BCB8B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1807-60ED-4584-AC7E-68B9290E6B7F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3E3-7B44-4DEE-B145-4EC4A1ED2890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A78F-BB4E-4E4F-92B7-0220AA28C7E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AEA-6174-4CB2-AD06-BF6359235FFA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F6B0-2375-4168-ABE8-456C3B37657D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958-CE06-47D1-9457-FCBAD553B3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DD23-07F9-4C0F-B437-8E4673C1441B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TextovéPole 3"/>
          <p:cNvSpPr/>
          <p:nvPr/>
        </p:nvSpPr>
        <p:spPr>
          <a:xfrm>
            <a:off x="324000" y="6093000"/>
            <a:ext cx="187164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4D52-5BDC-4A82-B8E0-3A0FCA30D84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7DC2-9863-417A-8952-0C33D3A4DBEB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4D7-A1F7-4183-9F73-115EB354BB51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B96C-19F3-4814-80F1-85D180974F9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6B0D-C5DB-48E7-BDE1-86D9599F0CC9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76F9-60DE-4A97-83BA-C4AE80B254DD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262E-CD53-4A83-969E-3826FDA6128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C856-2071-4CD9-BFFA-2014875F9DC7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75A-C737-4913-AB68-AD1D43C32FDA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52A-9290-48C7-AC51-D026EB3EEB6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8389-B631-4631-8EBF-FD2D2FA57C21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A5F-C943-4632-B31C-9F32FC34C751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C9D-4045-4234-8EBE-248AE8C1D5B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7BDC-8B24-4DDD-AF6C-CCB9534A4126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D03F-D897-46BB-8996-7C2E33A15F07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E8D-105E-4945-9716-5494EA5446C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Zástupný symbol pro číslo snímku 5"/>
          <p:cNvSpPr/>
          <p:nvPr/>
        </p:nvSpPr>
        <p:spPr>
          <a:xfrm>
            <a:off x="250920" y="6356520"/>
            <a:ext cx="64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9879-E880-4CB7-A718-FFBAD418BB5C}" type="slidenum">
              <a:rPr b="1" lang="cs-CZ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1116000" y="1628280"/>
            <a:ext cx="7570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FDEF-415D-4A7F-BB8D-737F43E3AF50}" type="datetime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7EF3-A0BA-4836-A4A4-B82316791919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msmt.cz/vzdelavani/skolstvi-v-cr/spolecny-evropsky-referencni-ramec-pro-jazyky?highlightWords=spole&#269;n&#253;+evropsk&#253;+referen&#269;n&#237;+r&#225;me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987640" y="3357360"/>
            <a:ext cx="547056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Úroveň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turitní </a:t>
            </a:r>
            <a:r>
              <a:rPr b="0" lang="en-GB" sz="4000" spc="-1" strike="noStrike">
                <a:solidFill>
                  <a:srgbClr val="002060"/>
                </a:solidFill>
                <a:latin typeface="Calibri"/>
              </a:rPr>
              <a:t>zkoušky dle SERR</a:t>
            </a: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a pracovní listy </a:t>
            </a:r>
            <a:br>
              <a:rPr sz="4000"/>
            </a:b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pro gymnázia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3059280" y="6021360"/>
            <a:ext cx="47844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Marie Černíková, MŠM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Obrázek 3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000160" cy="105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1116000" y="549000"/>
            <a:ext cx="757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medi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áš přítel cizinec je v nemocnici. Vy ho doprovázíte a svými slovy mu tlumočíte souhlas s ošetření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te v restauraci a Váš přítel se ptá, co je to „španělský ptáček“ nebo „svíčková“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 návštěvě hradu si děláte poznámky, a pak svými slovy rekapitulujete, co jste se dozvědě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Některé testologické zásady pro  zkouš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z cizích jazyk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alibrace dle SER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cept autenticity – situace se vztahuje k nějaké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krétní reálné aktivitě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ebo situac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. stanovení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íl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co chci zkoušet), 2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ůvod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proč to chci zkoušet), 3.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vednosti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které zkouší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ozor na příliš osobní otázky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itlivá témata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negativní zážitky (při tématu rodina, přírodní katastrofy se někteří žáci nemusí cítit dobř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Střídán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í monologu a dialogu – dát příležitost i uchazeči položit otázk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ritéria hodnoc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 stanovení mezní hranice úspěšnos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etestace úloh, následná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zpětná vazb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Návrh jednoduchého sch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             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racovního  listu na téma Jídlo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tázky: co, kdy, jak, proč,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ázek maso – vegetariá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ace: vysvětlit a popsat co je např. španělský ptáček či nějaké další české speci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vat přítele na pivní vele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Konkrétní příklady testových     úloh B2  v následujících slide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Následující příklady čerpají z konkrétních testových úloh vytvořených Cermatem pro MZ v roce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2011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však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plně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v kompetenci Vaší školy, jak si pracovní listy připravíte a jaká témata zveřejní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V každém případě je třeba formulovat zadání tak, aby žák byl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timulován k prokázání úrovně B2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: podrobnému popisu, obhájení názoru, argumentaci  výhod a nevýhod, atd. a prokázání dovedností B2 bylo soustředěno kolem 1 té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Zástupný symbol pro obsah 1" descr=""/>
          <p:cNvPicPr/>
          <p:nvPr/>
        </p:nvPicPr>
        <p:blipFill>
          <a:blip r:embed="rId1"/>
          <a:stretch/>
        </p:blipFill>
        <p:spPr>
          <a:xfrm>
            <a:off x="933480" y="23760"/>
            <a:ext cx="7753320" cy="6572160"/>
          </a:xfrm>
          <a:prstGeom prst="rect">
            <a:avLst/>
          </a:prstGeom>
          <a:ln w="0">
            <a:noFill/>
          </a:ln>
        </p:spPr>
      </p:pic>
      <p:pic>
        <p:nvPicPr>
          <p:cNvPr id="549" name="Obrázek 3" descr=""/>
          <p:cNvPicPr/>
          <p:nvPr/>
        </p:nvPicPr>
        <p:blipFill>
          <a:blip r:embed="rId2"/>
          <a:stretch/>
        </p:blipFill>
        <p:spPr>
          <a:xfrm>
            <a:off x="366840" y="1714680"/>
            <a:ext cx="8777160" cy="2001600"/>
          </a:xfrm>
          <a:prstGeom prst="rect">
            <a:avLst/>
          </a:prstGeom>
          <a:ln w="0">
            <a:noFill/>
          </a:ln>
        </p:spPr>
      </p:pic>
      <p:pic>
        <p:nvPicPr>
          <p:cNvPr id="550" name="Obrázek 7" descr=""/>
          <p:cNvPicPr/>
          <p:nvPr/>
        </p:nvPicPr>
        <p:blipFill>
          <a:blip r:embed="rId3"/>
          <a:stretch/>
        </p:blipFill>
        <p:spPr>
          <a:xfrm>
            <a:off x="557280" y="4282920"/>
            <a:ext cx="8105760" cy="1362240"/>
          </a:xfrm>
          <a:prstGeom prst="rect">
            <a:avLst/>
          </a:prstGeom>
          <a:ln w="0">
            <a:noFill/>
          </a:ln>
        </p:spPr>
      </p:pic>
      <p:pic>
        <p:nvPicPr>
          <p:cNvPr id="551" name="Obrázek 3" descr=""/>
          <p:cNvPicPr/>
          <p:nvPr/>
        </p:nvPicPr>
        <p:blipFill>
          <a:blip r:embed="rId4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Zástupný symbol pro obsah 1" descr=""/>
          <p:cNvPicPr/>
          <p:nvPr/>
        </p:nvPicPr>
        <p:blipFill>
          <a:blip r:embed="rId1"/>
          <a:stretch/>
        </p:blipFill>
        <p:spPr>
          <a:xfrm>
            <a:off x="963720" y="23760"/>
            <a:ext cx="7723080" cy="6572160"/>
          </a:xfrm>
          <a:prstGeom prst="rect">
            <a:avLst/>
          </a:prstGeom>
          <a:ln w="0">
            <a:noFill/>
          </a:ln>
        </p:spPr>
      </p:pic>
      <p:pic>
        <p:nvPicPr>
          <p:cNvPr id="553" name="Obrázek 2" descr=""/>
          <p:cNvPicPr/>
          <p:nvPr/>
        </p:nvPicPr>
        <p:blipFill>
          <a:blip r:embed="rId2"/>
          <a:stretch/>
        </p:blipFill>
        <p:spPr>
          <a:xfrm>
            <a:off x="1116000" y="1700280"/>
            <a:ext cx="7066080" cy="4321080"/>
          </a:xfrm>
          <a:prstGeom prst="rect">
            <a:avLst/>
          </a:prstGeom>
          <a:ln w="0">
            <a:noFill/>
          </a:ln>
        </p:spPr>
      </p:pic>
      <p:pic>
        <p:nvPicPr>
          <p:cNvPr id="554" name="Obrázek 3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1116000" y="115560"/>
            <a:ext cx="7570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z 1. části prac. listů CZVV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aveling, family, mass med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Obrázek 5" descr=""/>
          <p:cNvPicPr/>
          <p:nvPr/>
        </p:nvPicPr>
        <p:blipFill>
          <a:blip r:embed="rId1"/>
          <a:stretch/>
        </p:blipFill>
        <p:spPr>
          <a:xfrm>
            <a:off x="1073160" y="1989000"/>
            <a:ext cx="7753320" cy="1543320"/>
          </a:xfrm>
          <a:prstGeom prst="rect">
            <a:avLst/>
          </a:prstGeom>
          <a:ln w="0">
            <a:noFill/>
          </a:ln>
        </p:spPr>
      </p:pic>
      <p:pic>
        <p:nvPicPr>
          <p:cNvPr id="557" name="Obrázek 6" descr=""/>
          <p:cNvPicPr/>
          <p:nvPr/>
        </p:nvPicPr>
        <p:blipFill>
          <a:blip r:embed="rId2"/>
          <a:stretch/>
        </p:blipFill>
        <p:spPr>
          <a:xfrm>
            <a:off x="1073160" y="4653000"/>
            <a:ext cx="6705720" cy="1305000"/>
          </a:xfrm>
          <a:prstGeom prst="rect">
            <a:avLst/>
          </a:prstGeom>
          <a:ln w="0">
            <a:noFill/>
          </a:ln>
        </p:spPr>
      </p:pic>
      <p:pic>
        <p:nvPicPr>
          <p:cNvPr id="558" name="Obrázek 4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8684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cs-CZ" sz="4000" spc="-1" strike="noStrike">
                <a:solidFill>
                  <a:srgbClr val="ffff00"/>
                </a:solidFill>
                <a:latin typeface="Calibri"/>
              </a:rPr>
              <a:t>Příklady z 2. části prac. listů CZVV  </a:t>
            </a:r>
            <a:r>
              <a:rPr b="0" lang="cs-CZ" sz="40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rava, dovolen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45F-5C73-4107-8849-739912885A09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Obrázek 3" descr=""/>
          <p:cNvPicPr/>
          <p:nvPr/>
        </p:nvPicPr>
        <p:blipFill>
          <a:blip r:embed="rId1"/>
          <a:stretch/>
        </p:blipFill>
        <p:spPr>
          <a:xfrm>
            <a:off x="422280" y="2289240"/>
            <a:ext cx="8115120" cy="1676160"/>
          </a:xfrm>
          <a:prstGeom prst="rect">
            <a:avLst/>
          </a:prstGeom>
          <a:ln w="0">
            <a:noFill/>
          </a:ln>
        </p:spPr>
      </p:pic>
      <p:pic>
        <p:nvPicPr>
          <p:cNvPr id="562" name="Obrázek 5" descr=""/>
          <p:cNvPicPr/>
          <p:nvPr/>
        </p:nvPicPr>
        <p:blipFill>
          <a:blip r:embed="rId2"/>
          <a:stretch/>
        </p:blipFill>
        <p:spPr>
          <a:xfrm>
            <a:off x="647640" y="4898880"/>
            <a:ext cx="7993080" cy="1771920"/>
          </a:xfrm>
          <a:prstGeom prst="rect">
            <a:avLst/>
          </a:prstGeom>
          <a:ln w="0">
            <a:noFill/>
          </a:ln>
        </p:spPr>
      </p:pic>
      <p:pic>
        <p:nvPicPr>
          <p:cNvPr id="563" name="Obrázek 5" descr=""/>
          <p:cNvPicPr/>
          <p:nvPr/>
        </p:nvPicPr>
        <p:blipFill>
          <a:blip r:embed="rId3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00"/>
                </a:solidFill>
                <a:latin typeface="Calibri"/>
              </a:rPr>
              <a:t>Příklady z 3. části prac. listů CZVV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vyšší úroveň 20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6C0-0E4B-4E4D-A13A-E478B934BF92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Obrázek 3" descr=""/>
          <p:cNvPicPr/>
          <p:nvPr/>
        </p:nvPicPr>
        <p:blipFill>
          <a:blip r:embed="rId1"/>
          <a:stretch/>
        </p:blipFill>
        <p:spPr>
          <a:xfrm>
            <a:off x="96840" y="1685880"/>
            <a:ext cx="8564400" cy="4402080"/>
          </a:xfrm>
          <a:prstGeom prst="rect">
            <a:avLst/>
          </a:prstGeom>
          <a:ln w="0">
            <a:noFill/>
          </a:ln>
        </p:spPr>
      </p:pic>
      <p:pic>
        <p:nvPicPr>
          <p:cNvPr id="567" name="Obrázek 4" descr=""/>
          <p:cNvPicPr/>
          <p:nvPr/>
        </p:nvPicPr>
        <p:blipFill>
          <a:blip r:embed="rId2"/>
          <a:stretch/>
        </p:blipFill>
        <p:spPr>
          <a:xfrm>
            <a:off x="8663040" y="36360"/>
            <a:ext cx="47628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1115640" y="115560"/>
            <a:ext cx="808668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</a:rPr>
              <a:t>        </a:t>
            </a:r>
            <a:r>
              <a:rPr b="1" lang="cs-CZ" sz="3600" spc="-1" strike="noStrike">
                <a:solidFill>
                  <a:srgbClr val="ffff00"/>
                </a:solidFill>
                <a:latin typeface="Calibri"/>
              </a:rPr>
              <a:t>Příklady z 4. části prac. listů CZVV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ffff00"/>
                </a:solidFill>
                <a:latin typeface="Calibri"/>
              </a:rPr>
              <a:t>vyšší úroveň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Obrázek 2" descr=""/>
          <p:cNvPicPr/>
          <p:nvPr/>
        </p:nvPicPr>
        <p:blipFill>
          <a:blip r:embed="rId1"/>
          <a:stretch/>
        </p:blipFill>
        <p:spPr>
          <a:xfrm>
            <a:off x="528480" y="1484280"/>
            <a:ext cx="8087040" cy="4897440"/>
          </a:xfrm>
          <a:prstGeom prst="rect">
            <a:avLst/>
          </a:prstGeom>
          <a:ln w="0">
            <a:noFill/>
          </a:ln>
        </p:spPr>
      </p:pic>
      <p:pic>
        <p:nvPicPr>
          <p:cNvPr id="570" name="Obrázek 3" descr=""/>
          <p:cNvPicPr/>
          <p:nvPr/>
        </p:nvPicPr>
        <p:blipFill>
          <a:blip r:embed="rId2"/>
          <a:stretch/>
        </p:blipFill>
        <p:spPr>
          <a:xfrm>
            <a:off x="8624880" y="100080"/>
            <a:ext cx="476280" cy="44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Osn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2A1E-812A-493C-BCD7-C95CB6CD8F32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Diagram 4" descr=""/>
          <p:cNvPicPr/>
          <p:nvPr/>
        </p:nvPicPr>
        <p:blipFill>
          <a:blip r:embed="rId1"/>
          <a:stretch/>
        </p:blipFill>
        <p:spPr>
          <a:xfrm>
            <a:off x="1249200" y="1420920"/>
            <a:ext cx="6357960" cy="5059080"/>
          </a:xfrm>
          <a:prstGeom prst="rect">
            <a:avLst/>
          </a:prstGeom>
          <a:ln w="0">
            <a:noFill/>
          </a:ln>
        </p:spPr>
      </p:pic>
      <p:pic>
        <p:nvPicPr>
          <p:cNvPr id="498" name="Obrázek 9" descr=""/>
          <p:cNvPicPr/>
          <p:nvPr/>
        </p:nvPicPr>
        <p:blipFill>
          <a:blip r:embed="rId2"/>
          <a:stretch/>
        </p:blipFill>
        <p:spPr>
          <a:xfrm>
            <a:off x="1290600" y="1649520"/>
            <a:ext cx="1355760" cy="911160"/>
          </a:xfrm>
          <a:prstGeom prst="rect">
            <a:avLst/>
          </a:prstGeom>
          <a:ln w="0">
            <a:noFill/>
          </a:ln>
        </p:spPr>
      </p:pic>
      <p:grpSp>
        <p:nvGrpSpPr>
          <p:cNvPr id="499" name="Obdélník: se zakulacenými rohy 10"/>
          <p:cNvGrpSpPr/>
          <p:nvPr/>
        </p:nvGrpSpPr>
        <p:grpSpPr>
          <a:xfrm>
            <a:off x="1347840" y="2712960"/>
            <a:ext cx="1309680" cy="1041480"/>
            <a:chOff x="1347840" y="2712960"/>
            <a:chExt cx="1309680" cy="1041480"/>
          </a:xfrm>
        </p:grpSpPr>
        <p:pic>
          <p:nvPicPr>
            <p:cNvPr id="500" name="Obdélník: se zakulacenými rohy 10" descr=""/>
            <p:cNvPicPr/>
            <p:nvPr/>
          </p:nvPicPr>
          <p:blipFill>
            <a:blip r:embed="rId3"/>
            <a:stretch/>
          </p:blipFill>
          <p:spPr>
            <a:xfrm>
              <a:off x="1347840" y="2712960"/>
              <a:ext cx="13096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1389240" y="2755800"/>
              <a:ext cx="12268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TextShape 1" descr=""/>
          <p:cNvPicPr/>
          <p:nvPr/>
        </p:nvPicPr>
        <p:blipFill>
          <a:blip r:embed="rId1"/>
          <a:stretch/>
        </p:blipFill>
        <p:spPr>
          <a:xfrm>
            <a:off x="2200320" y="1152360"/>
            <a:ext cx="7572240" cy="5040360"/>
          </a:xfrm>
          <a:prstGeom prst="rect">
            <a:avLst/>
          </a:prstGeom>
          <a:ln w="0">
            <a:noFill/>
          </a:ln>
        </p:spPr>
      </p:pic>
      <p:sp>
        <p:nvSpPr>
          <p:cNvPr id="57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Kritéria hodnocení ÚSTNÍ ZKOUŠKY stanoví ŠKO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0496-7DAE-4150-8210-2EEB07E7A67F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1" descr=""/>
          <p:cNvPicPr/>
          <p:nvPr/>
        </p:nvPicPr>
        <p:blipFill>
          <a:blip r:embed="rId2"/>
          <a:stretch/>
        </p:blipFill>
        <p:spPr>
          <a:xfrm>
            <a:off x="1523880" y="3029040"/>
            <a:ext cx="6096240" cy="3268440"/>
          </a:xfrm>
          <a:prstGeom prst="rect">
            <a:avLst/>
          </a:prstGeom>
          <a:ln w="0">
            <a:noFill/>
          </a:ln>
        </p:spPr>
      </p:pic>
      <p:pic>
        <p:nvPicPr>
          <p:cNvPr id="575" name="Diagram 3" descr=""/>
          <p:cNvPicPr/>
          <p:nvPr/>
        </p:nvPicPr>
        <p:blipFill>
          <a:blip r:embed="rId3"/>
          <a:stretch/>
        </p:blipFill>
        <p:spPr>
          <a:xfrm>
            <a:off x="1249200" y="1689120"/>
            <a:ext cx="641376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Kritéria hodnoc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anovení přesných kritérií je důležité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 hodnocení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o argumentaci při odvol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 třeba stanovit procentuální úspěšnost pro uspění u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lkové zkouš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Rozděli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čemu dát více a čemu méně bodů, neboť úkoly nejsou rovnocenné (část 1 je patrně nejlehčí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vrhuje se stanovit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téria hodnocení pro každou část zvlášť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iz dá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186920" y="189000"/>
            <a:ext cx="7642440" cy="71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cs-CZ" sz="3200" spc="-1" strike="noStrike">
                <a:solidFill>
                  <a:srgbClr val="ffff00"/>
                </a:solidFill>
                <a:latin typeface="Calibri"/>
              </a:rPr>
              <a:t>Pouze a jen návrh na hodnocení dle obtížn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vod nejjednodušší – 1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pis obrázků srovnání – 2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ást reálie  – 3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ízený rozhovor  –  40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1116000" y="189000"/>
            <a:ext cx="7570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ffff00"/>
                </a:solidFill>
                <a:latin typeface="Calibri"/>
              </a:rPr>
              <a:t>Jak stanovit kritéria hodnocení ke každé úlo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k tématu či mimo té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luví v celých větách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užívá složitější vyjadřovací prostředk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á bohatou slovní zásobu nebo opakoval stále stejná slov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 nelze hodnotit celek …  celkový dojem jako v krasobruslení je v jazykových zkouškách velmi zavádějíc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2058840"/>
            <a:ext cx="4824360" cy="3805560"/>
          </a:xfrm>
          <a:prstGeom prst="rect">
            <a:avLst/>
          </a:prstGeom>
          <a:ln w="0">
            <a:noFill/>
          </a:ln>
        </p:spPr>
      </p:pic>
      <p:sp>
        <p:nvSpPr>
          <p:cNvPr id="580" name="Obdélník 4"/>
          <p:cNvSpPr/>
          <p:nvPr/>
        </p:nvSpPr>
        <p:spPr>
          <a:xfrm>
            <a:off x="1042920" y="1413000"/>
            <a:ext cx="58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 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zaujmou šedé myši“,…, učitel musí umět žákovi vysvětlit, proč dostal např. horší znám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extShape 1" descr=""/>
          <p:cNvPicPr/>
          <p:nvPr/>
        </p:nvPicPr>
        <p:blipFill>
          <a:blip r:embed="rId1"/>
          <a:stretch/>
        </p:blipFill>
        <p:spPr>
          <a:xfrm>
            <a:off x="2193840" y="1255680"/>
            <a:ext cx="7572600" cy="5041800"/>
          </a:xfrm>
          <a:prstGeom prst="rect">
            <a:avLst/>
          </a:prstGeom>
          <a:ln w="0">
            <a:noFill/>
          </a:ln>
        </p:spPr>
      </p:pic>
      <p:sp>
        <p:nvSpPr>
          <p:cNvPr id="582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5E64-27A7-4819-9796-4B92559E9C1A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85" name="Diagram 3" descr=""/>
          <p:cNvPicPr/>
          <p:nvPr/>
        </p:nvPicPr>
        <p:blipFill>
          <a:blip r:embed="rId3"/>
          <a:stretch/>
        </p:blipFill>
        <p:spPr>
          <a:xfrm>
            <a:off x="1285920" y="2036880"/>
            <a:ext cx="6254640" cy="42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TextShape 1" descr=""/>
          <p:cNvPicPr/>
          <p:nvPr/>
        </p:nvPicPr>
        <p:blipFill>
          <a:blip r:embed="rId1"/>
          <a:stretch/>
        </p:blipFill>
        <p:spPr>
          <a:xfrm>
            <a:off x="2193840" y="1231920"/>
            <a:ext cx="7572600" cy="5040360"/>
          </a:xfrm>
          <a:prstGeom prst="rect">
            <a:avLst/>
          </a:prstGeom>
          <a:ln w="0">
            <a:noFill/>
          </a:ln>
        </p:spPr>
      </p:pic>
      <p:sp>
        <p:nvSpPr>
          <p:cNvPr id="587" name="TextShape 2"/>
          <p:cNvSpPr/>
          <p:nvPr/>
        </p:nvSpPr>
        <p:spPr>
          <a:xfrm>
            <a:off x="0" y="136440"/>
            <a:ext cx="896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Nahrazení zkoušky z CJ  jazykovým certifikátem doplněn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8ECF-4505-44BB-8923-0955B2A8BDB8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9" name="Diagram 1" descr=""/>
          <p:cNvPicPr/>
          <p:nvPr/>
        </p:nvPicPr>
        <p:blipFill>
          <a:blip r:embed="rId2"/>
          <a:stretch/>
        </p:blipFill>
        <p:spPr>
          <a:xfrm>
            <a:off x="1762200" y="2266920"/>
            <a:ext cx="6534000" cy="4110120"/>
          </a:xfrm>
          <a:prstGeom prst="rect">
            <a:avLst/>
          </a:prstGeom>
          <a:ln w="0">
            <a:noFill/>
          </a:ln>
        </p:spPr>
      </p:pic>
      <p:pic>
        <p:nvPicPr>
          <p:cNvPr id="590" name="Diagram 3" descr=""/>
          <p:cNvPicPr/>
          <p:nvPr/>
        </p:nvPicPr>
        <p:blipFill>
          <a:blip r:embed="rId3"/>
          <a:stretch/>
        </p:blipFill>
        <p:spPr>
          <a:xfrm>
            <a:off x="1274760" y="1773360"/>
            <a:ext cx="6265800" cy="4548240"/>
          </a:xfrm>
          <a:prstGeom prst="rect">
            <a:avLst/>
          </a:prstGeom>
          <a:ln w="0">
            <a:noFill/>
          </a:ln>
        </p:spPr>
      </p:pic>
      <p:sp>
        <p:nvSpPr>
          <p:cNvPr id="591" name="Přímá spojnice 4"/>
          <p:cNvSpPr/>
          <p:nvPr/>
        </p:nvSpPr>
        <p:spPr>
          <a:xfrm>
            <a:off x="5958000" y="2995560"/>
            <a:ext cx="627120" cy="38736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římá spojnice 13"/>
          <p:cNvSpPr/>
          <p:nvPr/>
        </p:nvSpPr>
        <p:spPr>
          <a:xfrm flipV="1">
            <a:off x="4572000" y="3149280"/>
            <a:ext cx="0" cy="98280"/>
          </a:xfrm>
          <a:prstGeom prst="line">
            <a:avLst/>
          </a:prstGeom>
          <a:ln w="9360">
            <a:solidFill>
              <a:srgbClr val="3d8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Volný tvar: obrazec 14"/>
          <p:cNvSpPr/>
          <p:nvPr/>
        </p:nvSpPr>
        <p:spPr>
          <a:xfrm>
            <a:off x="3456000" y="2692440"/>
            <a:ext cx="981000" cy="2709720"/>
          </a:xfrm>
          <a:custGeom>
            <a:avLst/>
            <a:gdLst/>
            <a:ahLst/>
            <a:rect l="l" t="t" r="r" b="b"/>
            <a:pathLst>
              <a:path w="980653" h="3062767">
                <a:moveTo>
                  <a:pt x="972718" y="464234"/>
                </a:moveTo>
                <a:cubicBezTo>
                  <a:pt x="832041" y="248529"/>
                  <a:pt x="691364" y="32825"/>
                  <a:pt x="550687" y="42203"/>
                </a:cubicBezTo>
                <a:cubicBezTo>
                  <a:pt x="410010" y="51581"/>
                  <a:pt x="213063" y="58615"/>
                  <a:pt x="128657" y="520504"/>
                </a:cubicBezTo>
                <a:cubicBezTo>
                  <a:pt x="44251" y="982393"/>
                  <a:pt x="-61258" y="2445433"/>
                  <a:pt x="44250" y="2813538"/>
                </a:cubicBezTo>
                <a:cubicBezTo>
                  <a:pt x="149758" y="3181643"/>
                  <a:pt x="611648" y="3132406"/>
                  <a:pt x="761703" y="2729132"/>
                </a:cubicBezTo>
                <a:cubicBezTo>
                  <a:pt x="911758" y="2325858"/>
                  <a:pt x="1047746" y="829994"/>
                  <a:pt x="944583" y="393895"/>
                </a:cubicBezTo>
                <a:cubicBezTo>
                  <a:pt x="841420" y="-42204"/>
                  <a:pt x="255265" y="173501"/>
                  <a:pt x="142724" y="112541"/>
                </a:cubicBezTo>
                <a:cubicBezTo>
                  <a:pt x="30183" y="51581"/>
                  <a:pt x="224786" y="46892"/>
                  <a:pt x="269334" y="28135"/>
                </a:cubicBezTo>
                <a:cubicBezTo>
                  <a:pt x="313882" y="9378"/>
                  <a:pt x="372496" y="0"/>
                  <a:pt x="410010" y="0"/>
                </a:cubicBezTo>
                <a:cubicBezTo>
                  <a:pt x="447524" y="0"/>
                  <a:pt x="440491" y="14067"/>
                  <a:pt x="494417" y="28135"/>
                </a:cubicBezTo>
                <a:cubicBezTo>
                  <a:pt x="548343" y="42203"/>
                  <a:pt x="733567" y="84406"/>
                  <a:pt x="733567" y="84406"/>
                </a:cubicBezTo>
                <a:lnTo>
                  <a:pt x="733567" y="84406"/>
                </a:lnTo>
              </a:path>
            </a:pathLst>
          </a:custGeom>
          <a:noFill/>
          <a:ln w="25560">
            <a:solidFill>
              <a:srgbClr val="2d676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římá spojnice 17"/>
          <p:cNvSpPr/>
          <p:nvPr/>
        </p:nvSpPr>
        <p:spPr>
          <a:xfrm flipH="1">
            <a:off x="5866920" y="2946240"/>
            <a:ext cx="809640" cy="43668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116000" y="155700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2060"/>
                </a:solidFill>
                <a:latin typeface="Calibri"/>
              </a:rPr>
              <a:t>Marie Černíkov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1332000" y="333000"/>
            <a:ext cx="7354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Společný evropský referenční rám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Calibri"/>
              </a:rPr>
              <a:t>Companion volu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polečný evropský referenční rámec (SER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msmt.cz/vzdelavani/skolstvi-v-cr/spolecny-evropsky-referencni-ramec-pro-jazyky?highlightWords=spole%C4%8Dn%C3%BD+evropsk%C3%BD+referen%C4%8Dn%C3%AD+r%C3%A1m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RR byl rozšířen o </a:t>
            </a:r>
            <a:r>
              <a:rPr b="1" lang="cs-CZ" sz="2000" spc="-1" strike="noStrike">
                <a:solidFill>
                  <a:srgbClr val="002060"/>
                </a:solidFill>
                <a:latin typeface="Calibri"/>
              </a:rPr>
              <a:t>Companion volume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poslední verze je z roku 2020 (rozpracována mediace, přidány + úrovně, rozpracovány úrovně pro žák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rm.coe.int/common-european-framework-of-reference-for-languages-learning-teaching/16809ea0d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Obrázek 2" descr=""/>
          <p:cNvPicPr/>
          <p:nvPr/>
        </p:nvPicPr>
        <p:blipFill>
          <a:blip r:embed="rId2"/>
          <a:stretch/>
        </p:blipFill>
        <p:spPr>
          <a:xfrm>
            <a:off x="6443640" y="115920"/>
            <a:ext cx="2514600" cy="2436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Propojení SERR a tes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B991-FA3D-49AF-927D-1567173CF4CA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Obrázek 3" descr=""/>
          <p:cNvPicPr/>
          <p:nvPr/>
        </p:nvPicPr>
        <p:blipFill>
          <a:blip r:embed="rId1"/>
          <a:stretch/>
        </p:blipFill>
        <p:spPr>
          <a:xfrm>
            <a:off x="11160" y="1332000"/>
            <a:ext cx="3620880" cy="5408640"/>
          </a:xfrm>
          <a:prstGeom prst="rect">
            <a:avLst/>
          </a:prstGeom>
          <a:ln w="0">
            <a:noFill/>
          </a:ln>
        </p:spPr>
      </p:pic>
      <p:sp>
        <p:nvSpPr>
          <p:cNvPr id="507" name="Obdélník 4"/>
          <p:cNvSpPr/>
          <p:nvPr/>
        </p:nvSpPr>
        <p:spPr>
          <a:xfrm>
            <a:off x="4356000" y="450864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www.ecml.at/Portals/1/documents/ECML-resources/2011_10_10_relex._E_web.pdf?ver=2018-03-21-100940-8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Obrázek 5" descr=""/>
          <p:cNvPicPr/>
          <p:nvPr/>
        </p:nvPicPr>
        <p:blipFill>
          <a:blip r:embed="rId2"/>
          <a:stretch/>
        </p:blipFill>
        <p:spPr>
          <a:xfrm>
            <a:off x="3619440" y="1389240"/>
            <a:ext cx="5513400" cy="2008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extShape 1" descr=""/>
          <p:cNvPicPr/>
          <p:nvPr/>
        </p:nvPicPr>
        <p:blipFill>
          <a:blip r:embed="rId1"/>
          <a:stretch/>
        </p:blipFill>
        <p:spPr>
          <a:xfrm>
            <a:off x="1274760" y="1152360"/>
            <a:ext cx="7753320" cy="5139000"/>
          </a:xfrm>
          <a:prstGeom prst="rect">
            <a:avLst/>
          </a:prstGeom>
          <a:ln w="0">
            <a:noFill/>
          </a:ln>
        </p:spPr>
      </p:pic>
      <p:sp>
        <p:nvSpPr>
          <p:cNvPr id="510" name="TextShape 2"/>
          <p:cNvSpPr/>
          <p:nvPr/>
        </p:nvSpPr>
        <p:spPr>
          <a:xfrm>
            <a:off x="-6192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               </a:t>
            </a:r>
            <a:r>
              <a:rPr b="0" lang="cs-CZ" sz="3600" spc="-1" strike="noStrike">
                <a:solidFill>
                  <a:srgbClr val="ffff00"/>
                </a:solidFill>
                <a:latin typeface="Calibri"/>
                <a:ea typeface="DejaVu Sans"/>
              </a:rPr>
              <a:t>MZ a výstupní úroveň dle RV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Shape 3"/>
          <p:cNvSpPr/>
          <p:nvPr/>
        </p:nvSpPr>
        <p:spPr>
          <a:xfrm>
            <a:off x="70102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2BF-0E6F-411B-A4DF-5D15792DEB76}" type="slidenum">
              <a:rPr b="1" lang="cs-CZ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Řečová bublina: oválný bublinový popisek 8"/>
          <p:cNvSpPr/>
          <p:nvPr/>
        </p:nvSpPr>
        <p:spPr>
          <a:xfrm>
            <a:off x="900000" y="1768320"/>
            <a:ext cx="1995480" cy="1551240"/>
          </a:xfrm>
          <a:prstGeom prst="wedgeEllipseCallout">
            <a:avLst>
              <a:gd name="adj1" fmla="val 26824"/>
              <a:gd name="adj2" fmla="val 92884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Společná část  - B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Řečová bublina: oválný bublinový popisek 9"/>
          <p:cNvSpPr/>
          <p:nvPr/>
        </p:nvSpPr>
        <p:spPr>
          <a:xfrm>
            <a:off x="4572000" y="1693800"/>
            <a:ext cx="2124000" cy="1498680"/>
          </a:xfrm>
          <a:prstGeom prst="wedgeEllipseCallout">
            <a:avLst>
              <a:gd name="adj1" fmla="val -26064"/>
              <a:gd name="adj2" fmla="val 105060"/>
            </a:avLst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rofilová čá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B2 u prvního cizího jazy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Obdélník 4"/>
          <p:cNvSpPr/>
          <p:nvPr/>
        </p:nvSpPr>
        <p:spPr>
          <a:xfrm>
            <a:off x="8820000" y="-1440"/>
            <a:ext cx="648000" cy="3189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Obdélník 7"/>
          <p:cNvSpPr/>
          <p:nvPr/>
        </p:nvSpPr>
        <p:spPr>
          <a:xfrm>
            <a:off x="4572000" y="4581360"/>
            <a:ext cx="576360" cy="58284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Obrázek 14" descr=""/>
          <p:cNvPicPr/>
          <p:nvPr/>
        </p:nvPicPr>
        <p:blipFill>
          <a:blip r:embed="rId2"/>
          <a:stretch/>
        </p:blipFill>
        <p:spPr>
          <a:xfrm>
            <a:off x="2236680" y="4148280"/>
            <a:ext cx="3314880" cy="2390760"/>
          </a:xfrm>
          <a:prstGeom prst="rect">
            <a:avLst/>
          </a:prstGeom>
          <a:ln w="0">
            <a:noFill/>
          </a:ln>
        </p:spPr>
      </p:pic>
      <p:sp>
        <p:nvSpPr>
          <p:cNvPr id="517" name="Obdélník 15"/>
          <p:cNvSpPr/>
          <p:nvPr/>
        </p:nvSpPr>
        <p:spPr>
          <a:xfrm>
            <a:off x="1979640" y="4581360"/>
            <a:ext cx="576360" cy="58284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Obdélník 19"/>
          <p:cNvSpPr/>
          <p:nvPr/>
        </p:nvSpPr>
        <p:spPr>
          <a:xfrm>
            <a:off x="4788000" y="5373720"/>
            <a:ext cx="747720" cy="37620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Obdélník 20"/>
          <p:cNvSpPr/>
          <p:nvPr/>
        </p:nvSpPr>
        <p:spPr>
          <a:xfrm>
            <a:off x="4788000" y="5013360"/>
            <a:ext cx="747720" cy="360360"/>
          </a:xfrm>
          <a:prstGeom prst="rect">
            <a:avLst/>
          </a:prstGeom>
          <a:solidFill>
            <a:srgbClr val="418e96"/>
          </a:solidFill>
          <a:ln w="25560">
            <a:solidFill>
              <a:srgbClr val="2d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Ú Z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 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Dvě úrovně MZ v profilové čá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9F89-B72B-4959-B2A8-A42B5253C4D5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Diagram 3" descr=""/>
          <p:cNvPicPr/>
          <p:nvPr/>
        </p:nvPicPr>
        <p:blipFill>
          <a:blip r:embed="rId1"/>
          <a:stretch/>
        </p:blipFill>
        <p:spPr>
          <a:xfrm>
            <a:off x="1511280" y="1365120"/>
            <a:ext cx="6127920" cy="418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 ústní inter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se vypořádat s většinou situací, které pravděpodobně nastanou při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cestová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oblasti, kde se mluví daným jazyk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ůže vstoupit nepřipravený do konverzace na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témat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terá jsou mu známá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díky osobnímu zájmu nebo se týkají každodenního živo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 ústní intera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káže komunikovat s takovou mírou plynulosti a spontánnosti, která umožňuje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ravidelnou interakci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 uživateli cílového jazy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ůže se aktivně účastnit diskuse ve známých souvislostech,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obhájit a vysvětlit své názo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B8B2-1704-41AA-9BAE-6C5C4DA4ADE0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title"/>
          </p:nvPr>
        </p:nvSpPr>
        <p:spPr>
          <a:xfrm>
            <a:off x="539280" y="361800"/>
            <a:ext cx="74170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Ústní interakce B1 – B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Ústní produkce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B1 – B2</a:t>
            </a:r>
            <a:br>
              <a:rPr sz="44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mí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ednoduchý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způsobe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pojit věty tak, aby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opsal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ážitky a události, své sny, naděje a ambi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ručně může uvést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důvod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a vysvětlit názorů a plánů. Dokáže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vyprávět příběh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nebo spojit děj knihy nebo filmu a popsat své reak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předložit jasné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robné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pis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k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širokému spektr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t souvisejících s jeho zálib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se vyjádřit k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ktuálním problémům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opsat výhody a nevýhody různých možnost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07C9-51CC-45B8-83BD-2A45C28F83B9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1"/>
          <p:cNvSpPr/>
          <p:nvPr/>
        </p:nvSpPr>
        <p:spPr>
          <a:xfrm>
            <a:off x="3240" y="10548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r>
              <a:rPr b="0" lang="cs-CZ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240" y="105480"/>
            <a:ext cx="23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r>
              <a:rPr b="0" lang="cs-CZ" sz="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Calibri"/>
              </a:rPr>
              <a:t>Mediace a text </a:t>
            </a:r>
            <a:r>
              <a:rPr b="0" lang="cs-CZ" sz="4400" spc="-1" strike="noStrike">
                <a:solidFill>
                  <a:srgbClr val="ffff00"/>
                </a:solidFill>
                <a:latin typeface="Calibri"/>
                <a:ea typeface="Arial"/>
              </a:rPr>
              <a:t>B1 – B2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44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Arial"/>
              </a:rPr>
              <a:t>zdroj Companion volume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káže předat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informace podané v jasných, dobře strukturovaných informačních textech k tématům, která jsou známá nebo která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osobně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nebo aktuálně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ají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ehlivě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předá podrobné informace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argument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, např. důležitý bod obsažený ve složitých, ale dobře strukturovaných textech v mých zálibách profesního, akademického a osobního zájm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Zástupný symbol pro číslo snímku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C578-9CB9-4701-959C-732E890974E4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55520" y="25776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 Unicode MS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9T10:41:53Z</dcterms:created>
  <dc:creator>User</dc:creator>
  <dc:description/>
  <dc:language>en-US</dc:language>
  <cp:lastModifiedBy>Černíková Marie</cp:lastModifiedBy>
  <cp:lastPrinted>2021-09-29T13:54:03Z</cp:lastPrinted>
  <dcterms:modified xsi:type="dcterms:W3CDTF">2021-09-29T15:59:36Z</dcterms:modified>
  <cp:revision>457</cp:revision>
  <dc:subject/>
  <dc:title>Státní podpora sportu  pro rok 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1</vt:r8>
  </property>
  <property fmtid="{D5CDD505-2E9C-101B-9397-08002B2CF9AE}" pid="6" name="Notes">
    <vt:r8>0</vt:r8>
  </property>
  <property fmtid="{D5CDD505-2E9C-101B-9397-08002B2CF9AE}" pid="7" name="PresentationFormat">
    <vt:lpwstr>Předvádění na obrazovce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5</vt:r8>
  </property>
</Properties>
</file>